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A79-5ECB-4E97-9A1E-A47BA6E5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6AC-C8CE-4919-BB85-A16E0E5F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FB5-7D10-4CD3-AD1A-133B64D8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1A7-D9DC-4799-979D-009F259C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A46-7800-415E-8241-61CB0813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19D-3E33-4684-BE00-563F16F2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4923-5AFF-457D-BF4F-C13C10EF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54B-5C9B-41D6-8E27-1C5785A1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055-3054-421A-B801-F694D288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B82-BAC8-49BE-8D97-45C255F5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9D4-BCA4-4585-98F6-1039145D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DD3-DD16-4F0E-B405-77C559A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15B7-DC61-414E-907F-03FA4E202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for The communities in the Ni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quiz: multiple ch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re the communities begin to app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5000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6000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600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ming began in what two commun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gypt and The N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Egypt and Nu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Nubia and the N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raveled __________ And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uth and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North and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North and so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raded _______,______ and ______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ilver gold and bro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old silver and fine pot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ottery, Silver and Bro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ile was used to transport goods to th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Nu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gy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houses were made out of ______ And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Brick and m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Brick and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Mud and po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7:20:01Z</dcterms:created>
  <dc:creator>Default</dc:creator>
  <dc:description/>
  <dc:language>en-US</dc:language>
  <cp:lastModifiedBy>Default</cp:lastModifiedBy>
  <dcterms:modified xsi:type="dcterms:W3CDTF">2009-01-27T15:26:49Z</dcterms:modified>
  <cp:revision>3</cp:revision>
  <dc:subject/>
  <dc:title>Questions for The communities in the Nile…</dc:title>
</cp:coreProperties>
</file>